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E4DF-79E2-4E57-BE12-8DC4E2635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orbes.com/fdc/welcome_mjx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giangleblog.wordpress.com/2011/05/02/edit-5-dna-structure-group-b/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tudent.ccbcmd.edu/~gkaiser/biotutorials/dna/fg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www.stanford.edu/group/ccr/blog/2009/04/a_closer_look_1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purpleopurple.com/inventions-and-inventors/structure-of-DN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s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uni-tuebingen.de/ziegler/history/friedrich_miescher/friedrich_miesch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cell.sio2.be/moyens/1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logie-lk.de/showthread.php?t=12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Image from: http://textbookofbacteriology.net/phage.html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iscovermagazine.com/2009/apr/28-next-miracle-antibiotic-could-spawn-next-super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4DF-F63B-491B-BD70-BD575FFD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FD4-8117-4C9B-A307-23F600D8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AC4-BA4D-4CD9-A12E-99B02185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367-9376-4246-863B-F936AEF2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7BC-47EC-491B-828D-81C708B0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22A-4162-48D3-BDEA-07932B1E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7FF-C0F6-46F4-91A8-64AD905B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DFE-13AB-4363-99D8-5B285BBF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1D3-1654-4AC3-8A40-0FF0DDB2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896-D2C3-4464-BAA2-778B7199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A32-4ABD-4E84-BCD9-E101C1A4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220-0D9A-45AE-BBBA-3D96664F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4A2A-265F-48F0-80E1-9C4486E13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naftb.org/dnaftb/15/concept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The Code of Lif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98720" y="609480"/>
            <a:ext cx="6945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3040" y="609480"/>
            <a:ext cx="6396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win Chargaff (194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DNA from different organisms and measured levels of the 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ound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adenine = amt.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t. of cytosine = amt. of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X-ray diffraction imag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the double helix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120760"/>
            <a:ext cx="38098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Watson &amp; Francis Crick (19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ed model of DNA with a double helix of 2 anti-parallel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n the Nobel Prize in 1962 (with Maurice Wilki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97000" y="60948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Mies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92480" y="198108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drich Miescher (186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a substance he called “nuclein” from the nuclei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naftb.org/dnaftb/15/concept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chim Hammerling (1930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etabulari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ingle-celled alga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ed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0" y="2211480"/>
            <a:ext cx="41148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62240" y="609480"/>
            <a:ext cx="64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fred Hershey &amp; Martha Chase (195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bacteriophage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hereditary material is DNA not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2784600"/>
            <a:ext cx="38098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07960" y="609480"/>
            <a:ext cx="632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08160" y="609480"/>
            <a:ext cx="4925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ebus Levene (1920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the 3 components of D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se sug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at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0:16:36Z</dcterms:created>
  <dc:creator>rubina khan</dc:creator>
  <dc:description/>
  <dc:language>en-US</dc:language>
  <cp:lastModifiedBy>rubina khan</cp:lastModifiedBy>
  <dcterms:modified xsi:type="dcterms:W3CDTF">2013-03-28T17:07:12Z</dcterms:modified>
  <cp:revision>121</cp:revision>
  <dc:subject/>
  <dc:title>Molecular Genetics</dc:title>
</cp:coreProperties>
</file>